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4F92-7CBE-4780-82A6-E1C08D36B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not work.  Without your valuable inventions, this is a worthless project and will fail like all the oth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is no technology here.  Unless…. Maybe they could sell your transforming lamps door to door and the packaging could include a warning about the solarbin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always been meaning to build a better bomb.  Maybe instead of using the only planet buster bomb, you could get the funding to design a new o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 new technology equals a bad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keep in mind that if you don’t design something for a plan, it is doomed to fail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Vlirt, the head of Research and Development.  You develop the new technology used in the Plans.  Your blueprints and prototypes are top notch, but the guys in Tech never make your dreams into reality.  They always introduce bugs.  And then the Q/A folks don’t pay attention to the design; they are more concerned with your grammar and punctuation.  It’s a wonder anything you design gets built correctl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no circumstances should anyone else be allowed to suggest or comment on a technical plan.  That is you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might be a good manager, but his deep misunderstanding of technology always causes him to implement your ideas im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You aren’t sure which is the more bun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Sometimes you wonder if she even knows how to operate a simple televisor.  Her electrode guns always seem to j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techie.  He thinks he is so smart, but he probably can’t tell his thermatic coupling array from his multiretro magnetronic reco-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pinches pennies like it was an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He is more concerned with form over function and misses all of Tech’s real err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You had little to do with this project,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You developed a splendid transmitter device which was capable of reaching all of Earth at once.  But the PM didn’t mention that humans have primitive television receiver technology.  Your high definition signals were not received by the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Again, it required nothing from R&amp;D,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You proposed a special portable dictorobitary for Grognar, but Psanter in accounting said it would cost too much.  The humans feared Grognar and destroy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r robots were things of beauty.  However, QA failed to notice that the robots tended to clog up themselves.  You would have fixed the specs if the test results from the prototype module hadn’t been a twenty page manifesto on your spelling and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Your Natural Disaster Rays were built to spec, but the soldiers were mismanaged and poorly trained.  They used too much power and drained the energy cells so the Rays only were usable on four Earth cities before they ran out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You created the perfect mutagen and it worked perfectly.  The fact that they only mutated one animal and that it was one not given to rampaging was not your faul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allow your department to be blamed.  It’s all management, tech, Q/A and accounting’s fault.  They are working against you.  Philisti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 had a great success.  We correctly produced a mutagen that caused the animal in question to grow to nearly fifty times its original size with proportional strength and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we to have any anti-success, it would be that our formula was not sufficiently tested and thus did not cause nearly enough rampaging.  Additional funding and direction to the Q/A department would be usef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that you, and only you, have the correct grasp of advanced technology needed for the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the boys down at R&amp;D are on their way to a great breakthrough: common household objects that transform into other common household objects.  Already we have a lamp that transforms into a food processor.  Sure, there are a few bugs to work out, but imagine how this would confused the humans when they try to turn on their lights and they don’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pet project; it must be made the next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BD917-EB85-461D-94C6-494BD1D88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F4130-6E78-416F-AFF4-DE748883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BB551-F108-4E6D-8186-60EDCD0EC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BC8D6-79F8-4F78-9F90-939DF33F7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CABA-F5A4-480F-9286-A2563D66F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8C576-DA11-45B6-9B49-1DBF409B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659D4-2C27-4F33-B76F-38EA87FAC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012B7-CB5E-4B48-BE45-53A36C253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AFB9A-319F-4592-A777-E786533ED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A0B7-769A-4165-B4C7-57E4F19CF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67998-6F26-4734-9622-00D96B6D6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5AB95-BDD5-4BD8-8809-D1DA95D1B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DE66E4-4316-477D-B2F6-C42C73098D05}"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B42FF5-90C5-483F-8B0F-4E0F7CE9FBC5}"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39DAA6D9-6353-43B2-90BC-6EA514C840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12F57F76-8B7E-48C0-82C2-62BD0443A6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A65B6944-E2FA-49CC-9FB3-F66A5243B4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63053EAE-6472-4730-BAA4-2F09EACF6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EBCC6815-6EF0-4A10-85EC-30991E939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25408EE-DF11-488A-8C7E-3C56EDC942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99042C9B-ECDD-444E-A41A-89D3306E5E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3358DA0-233A-4950-9776-7234ACEE0A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03ADF78-9276-4708-B21C-CCF09E7FE5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4BEE158-41A7-4BB1-BA00-5DE97BA4F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1A7E11F-B6F5-4CE7-B91D-931AAD14E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994289B2-E29A-4AD3-B734-103A5102A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CC424D44-709E-4386-BEA5-E948132CA5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6F04A2BE-22F1-43E1-82E1-ADD1BE36DD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4:46Z</dcterms:modified>
  <cp:revision>42</cp:revision>
  <dc:subject/>
  <dc:title>Plan Eight From Outer Space</dc:title>
</cp:coreProperties>
</file>