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4248-7EC5-43FF-8D3D-3FAAA673E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1600" y="698400"/>
            <a:ext cx="465624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7B886-71D6-4F1F-BEC6-EE70E92FF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80B2C-87F0-4265-B009-24C770BD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15A50-E959-4037-94F4-BC3AEFAFD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618B9-5A40-4A00-8758-4781C90E9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DE342-98A3-4908-A30B-73AA559BA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9FB02-DEFD-478B-B064-593A6D059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57F3B-6B11-4E06-8D3B-E286946B3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88F85-416B-4AEC-81DD-903ED8D0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DB1DE-2001-488F-AEEB-B80D94F96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AEE70-A370-4C2B-8EA2-339843E7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37D8-EC53-4E56-BE5D-13E152528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50DF-0DA0-4EDE-955B-FA8101BCA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BD54-EE83-4E56-A914-6CFA7FB088C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CB58-BE8C-4D84-85DC-82943AC93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 Eight From Outer Spa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1752480"/>
            <a:ext cx="6400800" cy="373392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lcom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me Rul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ilosoph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bat, or Lack Thereof</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mat of the Game</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Halves</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0" y="5486400"/>
            <a:ext cx="9144000" cy="4572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Eight From Outer Space Copyright © 2005, Interactivities Ink</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DE2CDCA-59DB-4833-B1E7-19B8883703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r: Blint</a:t>
            </a:r>
            <a:endParaRPr b="0" lang="en-US" sz="4400" spc="-1" strike="noStrike">
              <a:solidFill>
                <a:srgbClr val="000000"/>
              </a:solidFill>
              <a:latin typeface="Arial"/>
            </a:endParaRPr>
          </a:p>
        </p:txBody>
      </p:sp>
      <p:pic>
        <p:nvPicPr>
          <p:cNvPr id="121" name="" descr=""/>
          <p:cNvPicPr/>
          <p:nvPr/>
        </p:nvPicPr>
        <p:blipFill>
          <a:blip r:embed="rId1"/>
          <a:stretch/>
        </p:blipFill>
        <p:spPr>
          <a:xfrm>
            <a:off x="3505320" y="2209680"/>
            <a:ext cx="2203200" cy="2481480"/>
          </a:xfrm>
          <a:prstGeom prst="rect">
            <a:avLst/>
          </a:prstGeom>
          <a:ln w="0">
            <a:noFill/>
          </a:ln>
        </p:spPr>
      </p:pic>
      <p:sp>
        <p:nvSpPr>
          <p:cNvPr id="3" name="PlaceHolder 2"/>
          <p:cNvSpPr>
            <a:spLocks noGrp="1"/>
          </p:cNvSpPr>
          <p:nvPr>
            <p:ph type="sldNum" idx="3"/>
          </p:nvPr>
        </p:nvSpPr>
        <p:spPr/>
        <p:txBody>
          <a:bodyPr/>
          <a:p>
            <a:fld id="{A626D08B-D512-458A-9D97-5FE0446B33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a:t>
            </a:r>
            <a:endParaRPr b="0" lang="en-US" sz="4400" spc="-1" strike="noStrike">
              <a:solidFill>
                <a:srgbClr val="000000"/>
              </a:solidFill>
              <a:latin typeface="Arial"/>
            </a:endParaRPr>
          </a:p>
        </p:txBody>
      </p:sp>
      <p:pic>
        <p:nvPicPr>
          <p:cNvPr id="123" name="" descr=""/>
          <p:cNvPicPr/>
          <p:nvPr/>
        </p:nvPicPr>
        <p:blipFill>
          <a:blip r:embed="rId1"/>
          <a:stretch/>
        </p:blipFill>
        <p:spPr>
          <a:xfrm>
            <a:off x="1828800" y="1600200"/>
            <a:ext cx="5791320" cy="3881520"/>
          </a:xfrm>
          <a:prstGeom prst="rect">
            <a:avLst/>
          </a:prstGeom>
          <a:ln w="0">
            <a:noFill/>
          </a:ln>
        </p:spPr>
      </p:pic>
      <p:sp>
        <p:nvSpPr>
          <p:cNvPr id="3" name="PlaceHolder 2"/>
          <p:cNvSpPr>
            <a:spLocks noGrp="1"/>
          </p:cNvSpPr>
          <p:nvPr>
            <p:ph type="sldNum" idx="3"/>
          </p:nvPr>
        </p:nvSpPr>
        <p:spPr/>
        <p:txBody>
          <a:bodyPr/>
          <a:p>
            <a:fld id="{7C393409-3098-42D1-ABF1-F3A9A4E5E9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Eros</a:t>
            </a:r>
            <a:endParaRPr b="0" lang="en-US" sz="4400" spc="-1" strike="noStrike">
              <a:solidFill>
                <a:srgbClr val="000000"/>
              </a:solidFill>
              <a:latin typeface="Arial"/>
            </a:endParaRPr>
          </a:p>
        </p:txBody>
      </p:sp>
      <p:pic>
        <p:nvPicPr>
          <p:cNvPr id="125" name="" descr=""/>
          <p:cNvPicPr/>
          <p:nvPr/>
        </p:nvPicPr>
        <p:blipFill>
          <a:blip r:embed="rId1"/>
          <a:stretch/>
        </p:blipFill>
        <p:spPr>
          <a:xfrm>
            <a:off x="2438280" y="1738440"/>
            <a:ext cx="4191120" cy="4174920"/>
          </a:xfrm>
          <a:prstGeom prst="rect">
            <a:avLst/>
          </a:prstGeom>
          <a:ln w="0">
            <a:noFill/>
          </a:ln>
        </p:spPr>
      </p:pic>
      <p:sp>
        <p:nvSpPr>
          <p:cNvPr id="3" name="PlaceHolder 2"/>
          <p:cNvSpPr>
            <a:spLocks noGrp="1"/>
          </p:cNvSpPr>
          <p:nvPr>
            <p:ph type="sldNum" idx="3"/>
          </p:nvPr>
        </p:nvSpPr>
        <p:spPr/>
        <p:txBody>
          <a:bodyPr/>
          <a:p>
            <a:fld id="{08A9D601-E5BF-414A-9D1C-0E026B908D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e Assistence</a:t>
            </a:r>
            <a:endParaRPr b="0" lang="en-US" sz="4400" spc="-1" strike="noStrike">
              <a:solidFill>
                <a:srgbClr val="000000"/>
              </a:solidFill>
              <a:latin typeface="Arial"/>
            </a:endParaRPr>
          </a:p>
        </p:txBody>
      </p:sp>
      <p:pic>
        <p:nvPicPr>
          <p:cNvPr id="127" name="" descr=""/>
          <p:cNvPicPr/>
          <p:nvPr/>
        </p:nvPicPr>
        <p:blipFill>
          <a:blip r:embed="rId1"/>
          <a:stretch/>
        </p:blipFill>
        <p:spPr>
          <a:xfrm>
            <a:off x="2625840" y="1676520"/>
            <a:ext cx="3786120" cy="3809880"/>
          </a:xfrm>
          <a:prstGeom prst="rect">
            <a:avLst/>
          </a:prstGeom>
          <a:ln w="0">
            <a:noFill/>
          </a:ln>
        </p:spPr>
      </p:pic>
      <p:sp>
        <p:nvSpPr>
          <p:cNvPr id="3" name="PlaceHolder 2"/>
          <p:cNvSpPr>
            <a:spLocks noGrp="1"/>
          </p:cNvSpPr>
          <p:nvPr>
            <p:ph type="sldNum" idx="3"/>
          </p:nvPr>
        </p:nvSpPr>
        <p:spPr/>
        <p:txBody>
          <a:bodyPr/>
          <a:p>
            <a:fld id="{7853A769-4543-4A71-ADAC-20B28F3363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Decision</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Add Tex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2C77434-A962-42FD-831D-7217A86C8CE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Earth Are Stupi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Previous Pl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s Who</a:t>
            </a:r>
            <a:endParaRPr b="0" lang="en-US" sz="2800" spc="-1" strike="noStrike">
              <a:solidFill>
                <a:srgbClr val="000000"/>
              </a:solidFill>
              <a:latin typeface="Arial"/>
            </a:endParaRPr>
          </a:p>
        </p:txBody>
      </p:sp>
      <p:pic>
        <p:nvPicPr>
          <p:cNvPr id="53" name="" descr=""/>
          <p:cNvPicPr/>
          <p:nvPr/>
        </p:nvPicPr>
        <p:blipFill>
          <a:blip r:embed="rId1"/>
          <a:stretch/>
        </p:blipFill>
        <p:spPr>
          <a:xfrm>
            <a:off x="4114800" y="3429000"/>
            <a:ext cx="3809880" cy="2297160"/>
          </a:xfrm>
          <a:prstGeom prst="rect">
            <a:avLst/>
          </a:prstGeom>
          <a:ln w="0">
            <a:noFill/>
          </a:ln>
        </p:spPr>
      </p:pic>
      <p:sp>
        <p:nvSpPr>
          <p:cNvPr id="4" name="PlaceHolder 3"/>
          <p:cNvSpPr>
            <a:spLocks noGrp="1"/>
          </p:cNvSpPr>
          <p:nvPr>
            <p:ph type="sldNum" idx="3"/>
          </p:nvPr>
        </p:nvSpPr>
        <p:spPr/>
        <p:txBody>
          <a:bodyPr/>
          <a:p>
            <a:fld id="{09EEC9F7-4C2A-4FFA-AE7C-6D430B7071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br>
              <a:rPr sz="4400"/>
            </a:br>
            <a:r>
              <a:rPr b="0" lang="en-US" sz="2400" spc="-1" strike="noStrike">
                <a:solidFill>
                  <a:srgbClr val="000000"/>
                </a:solidFill>
                <a:latin typeface="Arial"/>
              </a:rPr>
              <a:t>Plans 1-4: Communication</a:t>
            </a: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One:  Dolph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Two:  Televisor Mess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Three:  Classified 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Fou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D6F171E-3468-4ABD-B2FF-8A626B03F8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br>
              <a:rPr sz="4400"/>
            </a:br>
            <a:r>
              <a:rPr b="0" lang="en-US" sz="2400" spc="-1" strike="noStrike">
                <a:solidFill>
                  <a:srgbClr val="000000"/>
                </a:solidFill>
                <a:latin typeface="Arial"/>
              </a:rPr>
              <a:t>Plans 5-8: Mediation and Force</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Five:  Grogn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wer Syst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on of Several Earth Tow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radiate Earth’s Native Faun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888EAE-4381-42B1-A621-7746DA2745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 Eight Summar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Attempt to irradiate Earth’s native fauna to grow to giant size and attack and destroy Earth’s most powerful country: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Results:  Failure.  Irradiated Creatures failed to face American military.   No effect upon Earth or its scientific progr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91FB94D-0777-401D-BBBA-F132B049D3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partmental Reports</a:t>
            </a:r>
            <a:br>
              <a:rPr sz="4000"/>
            </a:br>
            <a:r>
              <a:rPr b="0" lang="en-US" sz="2000" spc="-1" strike="noStrike">
                <a:solidFill>
                  <a:srgbClr val="000000"/>
                </a:solidFill>
                <a:latin typeface="Arial"/>
              </a:rPr>
              <a:t>Please include your actual responsibilities, successes and anti-successes.</a:t>
            </a:r>
            <a:endParaRPr b="0" lang="en-US" sz="2000" spc="-1" strike="noStrike">
              <a:solidFill>
                <a:srgbClr val="000000"/>
              </a:solidFill>
              <a:latin typeface="Arial"/>
            </a:endParaRPr>
          </a:p>
        </p:txBody>
      </p:sp>
      <p:sp>
        <p:nvSpPr>
          <p:cNvPr id="6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mp;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ssur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44396CB-0531-4F56-9F40-404059EF1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Summary And Outcom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Summa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a:t>
            </a:r>
            <a:endParaRPr b="0" lang="en-US" sz="2800" spc="-1" strike="noStrike">
              <a:solidFill>
                <a:srgbClr val="000000"/>
              </a:solidFill>
              <a:latin typeface="Arial"/>
            </a:endParaRPr>
          </a:p>
        </p:txBody>
      </p:sp>
      <p:grpSp>
        <p:nvGrpSpPr>
          <p:cNvPr id="64" name=""/>
          <p:cNvGrpSpPr/>
          <p:nvPr/>
        </p:nvGrpSpPr>
        <p:grpSpPr>
          <a:xfrm>
            <a:off x="4122720" y="1834560"/>
            <a:ext cx="3957480" cy="3545280"/>
            <a:chOff x="4122720" y="1834560"/>
            <a:chExt cx="3957480" cy="3545280"/>
          </a:xfrm>
        </p:grpSpPr>
        <p:sp>
          <p:nvSpPr>
            <p:cNvPr id="65" name=""/>
            <p:cNvSpPr/>
            <p:nvPr/>
          </p:nvSpPr>
          <p:spPr>
            <a:xfrm>
              <a:off x="4311360" y="4246200"/>
              <a:ext cx="965520" cy="113364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430520" y="5118840"/>
              <a:ext cx="244440" cy="2466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363920" y="4976640"/>
              <a:ext cx="210960" cy="18504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05200" y="4720680"/>
              <a:ext cx="355680" cy="39816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632120" y="4690440"/>
              <a:ext cx="379440" cy="42372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546440" y="4595760"/>
              <a:ext cx="415800" cy="46764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21240" y="4523040"/>
              <a:ext cx="361800" cy="38556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825800" y="4263840"/>
              <a:ext cx="425520" cy="47556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73720" y="4442400"/>
              <a:ext cx="247680" cy="2419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284880" y="4497480"/>
              <a:ext cx="187200" cy="18360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49760" y="4187520"/>
              <a:ext cx="370080" cy="44424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457680" y="4488120"/>
              <a:ext cx="114480" cy="134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929120" y="4374000"/>
              <a:ext cx="230040" cy="23400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943520" y="4388400"/>
              <a:ext cx="198360" cy="20520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597360" y="4320360"/>
              <a:ext cx="163800" cy="15192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64240" y="4285440"/>
              <a:ext cx="174600" cy="1659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9840" y="4268160"/>
              <a:ext cx="152640" cy="14220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86280" y="4198680"/>
              <a:ext cx="125640" cy="12636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723000" y="4222440"/>
              <a:ext cx="66600" cy="6624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4" name=""/>
            <p:cNvSpPr/>
            <p:nvPr/>
          </p:nvSpPr>
          <p:spPr>
            <a:xfrm>
              <a:off x="6729120" y="4231800"/>
              <a:ext cx="49320" cy="4752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 name=""/>
            <p:cNvSpPr/>
            <p:nvPr/>
          </p:nvSpPr>
          <p:spPr>
            <a:xfrm>
              <a:off x="7369200" y="3593160"/>
              <a:ext cx="711000" cy="60552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380000" y="3604320"/>
              <a:ext cx="676440" cy="57348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276440" y="2092320"/>
              <a:ext cx="3222720" cy="204012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287600" y="3075840"/>
              <a:ext cx="3194280" cy="104004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429080" y="2944800"/>
              <a:ext cx="2989080" cy="88380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33720" y="2734200"/>
              <a:ext cx="2146320" cy="62928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27400" y="2102040"/>
              <a:ext cx="1641600" cy="95148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665680" y="2995200"/>
              <a:ext cx="73080" cy="522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3" name=""/>
            <p:cNvSpPr/>
            <p:nvPr/>
          </p:nvSpPr>
          <p:spPr>
            <a:xfrm>
              <a:off x="5410080" y="2756520"/>
              <a:ext cx="584280" cy="24012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81360" y="2837160"/>
              <a:ext cx="454320" cy="8856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 name=""/>
            <p:cNvSpPr/>
            <p:nvPr/>
          </p:nvSpPr>
          <p:spPr>
            <a:xfrm>
              <a:off x="5938560" y="2841840"/>
              <a:ext cx="22320" cy="7128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 name=""/>
            <p:cNvSpPr/>
            <p:nvPr/>
          </p:nvSpPr>
          <p:spPr>
            <a:xfrm>
              <a:off x="7203960" y="1937520"/>
              <a:ext cx="609480" cy="8679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262640" y="2492640"/>
              <a:ext cx="241200" cy="30492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359400" y="2413080"/>
              <a:ext cx="252360" cy="3542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92600" y="2494080"/>
              <a:ext cx="318960" cy="27036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365880" y="2427480"/>
              <a:ext cx="230040" cy="33192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54600" y="2658600"/>
              <a:ext cx="25200" cy="5976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 name=""/>
            <p:cNvSpPr/>
            <p:nvPr/>
          </p:nvSpPr>
          <p:spPr>
            <a:xfrm>
              <a:off x="5722920" y="2666520"/>
              <a:ext cx="15840" cy="4860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3" name=""/>
            <p:cNvSpPr/>
            <p:nvPr/>
          </p:nvSpPr>
          <p:spPr>
            <a:xfrm>
              <a:off x="4122720" y="1834560"/>
              <a:ext cx="766800" cy="8679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140000" y="1848600"/>
              <a:ext cx="733680" cy="84240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240320" y="2617200"/>
              <a:ext cx="47880" cy="4896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6" name=""/>
            <p:cNvSpPr/>
            <p:nvPr/>
          </p:nvSpPr>
          <p:spPr>
            <a:xfrm>
              <a:off x="7315200" y="2452680"/>
              <a:ext cx="79200" cy="13104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217840" y="2289960"/>
              <a:ext cx="298440" cy="29232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234040" y="2294640"/>
              <a:ext cx="260280" cy="27972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488000" y="2187360"/>
              <a:ext cx="228600" cy="2984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414920" y="2150640"/>
              <a:ext cx="249480" cy="30816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365960" y="2124000"/>
              <a:ext cx="249120" cy="28116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548480" y="1945080"/>
              <a:ext cx="253800" cy="30636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50000" y="2043000"/>
              <a:ext cx="111240" cy="1090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667640" y="2044800"/>
              <a:ext cx="83880" cy="9612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17578FCA-6639-4C98-AC4A-0D53439F3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Part Two</a:t>
            </a:r>
            <a:endParaRPr b="0" lang="en-US" sz="6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do we go from her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Black"/>
              </a:rPr>
              <a:t>Do not read these slides until you are told to.</a:t>
            </a:r>
            <a:endParaRPr b="0" lang="en-US" sz="4400" spc="-1" strike="noStrike">
              <a:solidFill>
                <a:srgbClr val="000000"/>
              </a:solidFill>
              <a:latin typeface="Arial"/>
            </a:endParaRPr>
          </a:p>
        </p:txBody>
      </p:sp>
      <p:pic>
        <p:nvPicPr>
          <p:cNvPr id="117" name="" descr=""/>
          <p:cNvPicPr/>
          <p:nvPr/>
        </p:nvPicPr>
        <p:blipFill>
          <a:blip r:embed="rId1"/>
          <a:stretch/>
        </p:blipFill>
        <p:spPr>
          <a:xfrm>
            <a:off x="2287440" y="2895480"/>
            <a:ext cx="4569120" cy="538200"/>
          </a:xfrm>
          <a:prstGeom prst="rect">
            <a:avLst/>
          </a:prstGeom>
          <a:ln w="0">
            <a:noFill/>
          </a:ln>
        </p:spPr>
      </p:pic>
      <p:sp>
        <p:nvSpPr>
          <p:cNvPr id="4" name="PlaceHolder 3"/>
          <p:cNvSpPr>
            <a:spLocks noGrp="1"/>
          </p:cNvSpPr>
          <p:nvPr>
            <p:ph type="sldNum" idx="3"/>
          </p:nvPr>
        </p:nvSpPr>
        <p:spPr/>
        <p:txBody>
          <a:bodyPr/>
          <a:p>
            <a:fld id="{BA09AD5C-F043-4DA8-BB46-FFB8BC291A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amp; Development</a:t>
            </a:r>
            <a:endParaRPr b="0" lang="en-US" sz="4400" spc="-1" strike="noStrike">
              <a:solidFill>
                <a:srgbClr val="000000"/>
              </a:solidFill>
              <a:latin typeface="Arial"/>
            </a:endParaRPr>
          </a:p>
        </p:txBody>
      </p:sp>
      <p:pic>
        <p:nvPicPr>
          <p:cNvPr id="119" name="" descr=""/>
          <p:cNvPicPr/>
          <p:nvPr/>
        </p:nvPicPr>
        <p:blipFill>
          <a:blip r:embed="rId1"/>
          <a:stretch/>
        </p:blipFill>
        <p:spPr>
          <a:xfrm>
            <a:off x="2057400" y="1447920"/>
            <a:ext cx="5181480" cy="4349520"/>
          </a:xfrm>
          <a:prstGeom prst="rect">
            <a:avLst/>
          </a:prstGeom>
          <a:ln w="0">
            <a:noFill/>
          </a:ln>
        </p:spPr>
      </p:pic>
      <p:sp>
        <p:nvSpPr>
          <p:cNvPr id="3" name="PlaceHolder 2"/>
          <p:cNvSpPr>
            <a:spLocks noGrp="1"/>
          </p:cNvSpPr>
          <p:nvPr>
            <p:ph type="sldNum" idx="3"/>
          </p:nvPr>
        </p:nvSpPr>
        <p:spPr/>
        <p:txBody>
          <a:bodyPr/>
          <a:p>
            <a:fld id="{C32A1B1A-7643-42AD-A17E-F11835C3CA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30T01:27:13Z</dcterms:modified>
  <cp:revision>10</cp:revision>
  <dc:subject/>
  <dc:title>Plan Eight From Outer Space</dc:title>
</cp:coreProperties>
</file>