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D343-E69F-4E1F-B0E6-00ECF9E14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expense.  Maybe if Blint went alo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you have the perfect plan: hold a raffle or bake sale to get Earth’s attention.  Not only will you be communicating your anti-solarbinite message, you can make money doing it.  Maybe a pledge drive, that would be good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e have just one plant buster bomb is because they cost too much to produce.  This mad plan cannot be allowed to waste such a valuable resour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could work, maybe.  It would have a high initial expense, but if marketing does its job right, the show could be a smash hit and make money.  Oh, wait, marketing never does its job right.  Back to the drawing boar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t.  Make certain that no matter what plan is chosen, it be frug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Psanter, the head of Accounting.  The real problem is that none of the other crewpeople have any sort of head for money.  Nearly every plan has lost money.  At this point, there are barely any funds left.  Why if it weren’t for you, your entire race would be bankrupt b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while you tirelessly perform your valuable service, the others blame you for cutting their budgets.  Well, if you hadn’t cut their budgets, you would all be insolvent by now.  As it is, you’re cutting it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more concerned with destruction than thr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You aren’t sure which is the more bun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would think that she would have some sort of training with a budget, but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techie.  He always is pestering you to upgrade his equipment, but you know he could make do with what h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amp;D.  You </a:t>
            </a:r>
            <a:r>
              <a:rPr b="0" i="1" lang="en-US" sz="1200" spc="-1" strike="noStrike">
                <a:solidFill>
                  <a:srgbClr val="000000"/>
                </a:solidFill>
                <a:latin typeface="Arial"/>
              </a:rPr>
              <a:t>hate</a:t>
            </a:r>
            <a:r>
              <a:rPr b="0" lang="en-US" sz="1200" spc="-1" strike="noStrike">
                <a:solidFill>
                  <a:srgbClr val="000000"/>
                </a:solidFill>
                <a:latin typeface="Arial"/>
              </a:rPr>
              <a:t> the boys in R&amp;D.  They are always trying to build more and more expensive devices.  You need to shoot down any ideas Vlir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If there is one ally at the table, it would be Hormel.  You aren’t exactly friends, but you have common enemies: everyone else.  Maybe if you help defend Hormal, he’ll do the same for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The plan failed, but you were able to keep costs reaso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The PM, Blint, produced a plan for extravagant televisor signals with multiple colors and a holographic display.  You were able to convince him that the humans only needed a simple HDTV signal, saving thousands of units of curr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The plan was to place a classified ad in the newspapers of Earth.  You were able to restrict access to countries that had the possibility of developing the solarbinite.  You count this plan as the one with the greatest amount of success.  While the plans may have been mistranslated, you received 246 offers to buy a used car and was able to sell one of the defective spaceships, passing it off as a two year old dats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R&amp;D wanted to equip Grognar, a master of diplomacy, with a number of fancy unnecessary gadgets.  The humans feared Grognar and destroyed it; had you caved in, even more money would have be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The robots were defective and became clogged themselves.  R&amp;D and Tech blamed QA for not discovering the flaws.  You feel that if they hadn’t allowed the flaws in the first place, the robots wouldn’t be rotting in the sewers as it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using rays that simulated natural disasters.  You tried to suggest modifying the electrode guns; it would have been much cheaper.  Had they listened to you, the plan might not have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That was the plan.  One monster.  So that was all you allowed in the budget.  It is not your fault that they chose a creature unlikely to ram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llow your department to be blamed.  It’s all management, tech, and R&amp;D’s fault.  They are working against you.  They have no concept of economics at 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was able to keep to a sane and rational budget.  The budget provided was precisely what was required in the sp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s anti-success is in public relations.  The other departments have a knee jerk response to blame us when they submit bloated budgets and/or their projects f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that you, and only you, can approve budgets.  Try to keep them from being to extravag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working with six unprofitable plans and one unknown.  Money is extremely tigh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s plan is far too expensive.  You are not cut out for that sort of mass 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31E2D-36E3-41CA-AFAC-7D4D0C9A6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6349F-EC48-47A0-ACD7-CD3D8F5E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48995-53B1-453F-936A-985AD544D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1D66E-E751-49D3-A568-06DB0A6DC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06301-1EA0-4A62-804B-E888747C6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8B69F-BA9E-4715-A05E-C5B7D049E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A5F5-37A6-4DDF-83A7-3846F11B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368DD-6EEB-42B5-9B9B-CAD1CDBFC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1CDC-BD69-42E0-A760-BB8EC1F89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0EBB-60A1-4F2C-9855-CBA05312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3DD46-A2EB-43AD-BDCD-819C1AEC2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E8014-9F9F-41BE-B030-24AABCBBF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701FC8-9DF9-495A-AE7A-6FF586554F04}"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BE29AF-DEE1-4BE0-8F0B-E1E42E9E129E}"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82B51F47-F0D6-489D-B433-C6A268CF6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8BDE7BB8-FCC2-4D47-BDF6-85D7B7CBD9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76798332-D308-4FE3-8D61-845BAD8DA5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25B9F9E0-E6FC-460A-80D8-F8D804BA7B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E566D71E-0A62-4C2E-B0F0-AC093B6DB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9D6A11B-2E14-4636-9D7C-9BB00F4582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011ACADE-7F4D-4E5E-97D6-2CCC2263B6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900D377-932C-4185-A5CB-2974863B3A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A9F88FE-6E03-4E5B-93A2-10076A05C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1808950-D8AF-4141-90CA-D8817FBB1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F7E01D4-132B-4748-9366-75B3209E3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8E15E900-F2A3-4E1F-B134-2F6E0C827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E81A66D4-22E4-4413-99EA-2CC5A2B75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4E7500D9-4DED-4809-95FF-2A0CDA390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6:51Z</dcterms:modified>
  <cp:revision>51</cp:revision>
  <dc:subject/>
  <dc:title>Plan Eight From Outer Space</dc:title>
</cp:coreProperties>
</file>