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81A0-D055-44BE-A970-83DD857BA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laws in every plan.  Find them.  Point them out.  Don’t offer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laws in every plan.  Find them.  Point them out.  Don’t offer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laws in every plan.  Find them.  Point them out.  Don’t offer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laws in every plan.  Find them.  Point them out.  Don’t offer solut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6520" y="698400"/>
            <a:ext cx="4584960" cy="3492720"/>
          </a:xfrm>
          <a:prstGeom prst="rect">
            <a:avLst/>
          </a:prstGeom>
          <a:ln w="0">
            <a:noFill/>
          </a:ln>
        </p:spPr>
      </p:sp>
      <p:sp>
        <p:nvSpPr>
          <p:cNvPr id="15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llet point, “Click to Add Text” is irreleva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646280" y="698400"/>
            <a:ext cx="3565440" cy="2716200"/>
          </a:xfrm>
          <a:prstGeom prst="rect">
            <a:avLst/>
          </a:prstGeom>
          <a:ln w="0">
            <a:noFill/>
          </a:ln>
        </p:spPr>
      </p:sp>
      <p:sp>
        <p:nvSpPr>
          <p:cNvPr id="133" name="PlaceHolder 2"/>
          <p:cNvSpPr>
            <a:spLocks noGrp="1"/>
          </p:cNvSpPr>
          <p:nvPr>
            <p:ph type="body"/>
          </p:nvPr>
        </p:nvSpPr>
        <p:spPr>
          <a:xfrm>
            <a:off x="380880" y="3569760"/>
            <a:ext cx="6096240" cy="5045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Hormal, the head of Quality Assurance.  You are the deciding factor, the only one who can say if a device is ready to go to the field.  This sort of job requires an exacting man.  You are that exacting man.  All details, no matter how small, are to be vetted and approved.  There are those who say that you are so busy worrying about punctuation that you never read the document.  You know, however, that all parts of a plan are important, including punctuation, spelling, and gramm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cellency: The man in charge.  He makes all the decisions and could fire you if he wanted, or worse yet, transfer you to one of the moons of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One of the project managers.  He is a warlike buff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t:  The other project manager.  He is not strong enough to be a good manager.  The ideal manager would be one midway between the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na:  Administrative assistant.  You wonder about her.  She certainly wasn’t hired for her typ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lon:  Technical lead.  He is easily distracted, and like all technical implementers blams you for his shortcom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ira:  She is the head of marketing.  She has the worst ideas; you try not to listen to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  Accounting.  He is, perhaps, the closest thing you have to an ally at thi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rt:  Research and Development.  Some of their designs are laughably bad.  Why, he cannot even spell “reticulat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6520" y="698400"/>
            <a:ext cx="4584960" cy="3492720"/>
          </a:xfrm>
          <a:prstGeom prst="rect">
            <a:avLst/>
          </a:prstGeom>
          <a:ln w="0">
            <a:noFill/>
          </a:ln>
        </p:spPr>
      </p:sp>
      <p:sp>
        <p:nvSpPr>
          <p:cNvPr id="13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So plans were developed.  For every plan, you have presented a list of no fewer than 57 (and as many as 2173) change requests, but because the Project Managers seek to bring things in under an artificial deadline, you change requests are igno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plan was to communicate with Dolphins to form an alliance against the humans.  The dolphins had no trouble fashioning a dictorobitary to translate, but had no interest in working with your people.  They would rather cavort and play. It fail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lan was to broadcast televisor messages.  The humans were unable to receive the transmitted signals and the plan fail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Three was the final sole attempt to communicate with humans.  Again, it required nothing from R&amp;D, so it fail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cords have been lost for Plan Four.   Not your 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Plan” is irregularly capitalized in your not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tops listing the plan numbers after “Plan Five.”  Plan Seven has a period at the end of the bullet point; the others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ive was to send Grognar, the friendly interstellar monster to mediate. The humans feared Grognar and destroy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ix was to send a number of robots to clog the septic systems of Earth.  Your robots were things of beauty.  The specs for the robots were the worst you ever saw.  You sent back a 20 page report meticulously listing every error in the specs.  R&amp;D completely ignored your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even involved the destruction of several minor Earth cities using rays that simulate natural disasters.  However, the stupid humans actually blamed the destruction on natural disasters and the message was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Eight was to create a giant mutant monster to rampage across Earth.  The animal chosen was not native to the continent most likely to develop the Solarbinite.  And, again, the humans did not get the mess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ntains numerous grammatical errors and sentence fragments.  The information is poorly formatted and would be difficult to read if projected upon a larger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this entire slide is redundant as it is summarized in the previous sl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space after the word “Marketing” and the period on the second bullet point.  “Anti-success” is not a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the second line is poorly formatted.  Instead of allowing it to wrap at the hyphen, a manual carriage return should have been placed between “responsibilities” and successes after the com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ly, Plan Eight had two Project Managers.  The slide should be updated to reflect thi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llet points are redund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on this slide has nothing to do with your project or pla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laws in every plan.  Find them.  Point them out.  Don’t offer sol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603AA-B8BD-4D5E-8E87-C0CD17EC8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65D78-260B-4E47-83A3-456B2A09E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EA8FE-E10B-4281-BFC3-7381E9DFB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75F41-349D-434E-90B4-304405195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20079-BB43-4CDA-AE3C-D24CB5049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D9B3B-1B2C-48E8-A82A-CB27488D5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93830-20BF-4E41-A3A4-5B3048C0C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750A8-172C-458E-B269-68198A0A9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FBDFB-E95A-4DBE-ADAD-DA1C68C01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6E7DB-77E0-40AF-ADFE-C475D50F5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0D990-501F-427B-A843-51923B1D1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FC5EC-D8A4-4E92-BD0D-5A1559D09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6B0D8EF-704D-42E2-8E83-C7A28D637D45}" type="datetime">
              <a:rPr b="0" lang="en-US" sz="1500" spc="-1" strike="noStrike">
                <a:solidFill>
                  <a:srgbClr val="000000"/>
                </a:solidFill>
                <a:latin typeface="Arial"/>
              </a:rPr>
              <a:t>07/30/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C4905F-1F32-413D-BB02-8F2023B1DC2C}"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06250420-0EB2-4E33-A5D7-7CF7170235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6A48BB6C-347D-4520-BF99-2603D5B340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F1E11E95-8AA2-4A9A-AEEE-D032A18932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B8FA679E-5118-47AB-96BD-388E49EB5B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22261025-186E-445E-A8FA-BD885B42D0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493EA8A-7D75-4878-BB96-B1DB3667A07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B9AE9D6A-4B48-4294-967B-41F59C8B6B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4B764B9-272A-496D-BE3E-DDCD7D70E5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C087D12-1A41-4C87-805D-54908AD3DA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B632406-86FA-40D1-BF3C-8EB8D91E8A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DAE03C1-F47B-4C4A-AEE1-3B826607D6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51D744A6-39BA-402A-8039-7F4CE1BED1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AA8CC9B2-31FE-4C75-A2A6-FCAA7EC76E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07B0F566-27EE-40F2-BF3B-656B4A794E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37:14Z</dcterms:modified>
  <cp:revision>47</cp:revision>
  <dc:subject/>
  <dc:title>Plan Eight From Outer Space</dc:title>
</cp:coreProperties>
</file>