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85440"/>
            <a:ext cx="45021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382B-908A-4AC5-A4B0-BD1BB8C24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7920" y="685800"/>
            <a:ext cx="450216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85800"/>
            <a:ext cx="450216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but how do you </a:t>
            </a:r>
            <a:r>
              <a:rPr b="0" i="1" lang="en-US" sz="1200" spc="-1" strike="noStrike">
                <a:solidFill>
                  <a:srgbClr val="000000"/>
                </a:solidFill>
                <a:latin typeface="Arial"/>
              </a:rPr>
              <a:t>sell</a:t>
            </a:r>
            <a:r>
              <a:rPr b="0" lang="en-US" sz="1200" spc="-1" strike="noStrike">
                <a:solidFill>
                  <a:srgbClr val="000000"/>
                </a:solidFill>
                <a:latin typeface="Arial"/>
              </a:rPr>
              <a:t> negotiations.  You need to have a big media event, maybe a press conference instead.  You need to have brand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85800"/>
            <a:ext cx="450216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ke sale would never convince humans to not build the Solarbinite.  Instead, you need to hold a pledge dri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85800"/>
            <a:ext cx="450216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how exactly does destroying their planet convince the people of Earth not to build the solarbin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7920" y="685800"/>
            <a:ext cx="450216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sical would need a catchy opening number.  You should be the one to write all the song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85800"/>
            <a:ext cx="450216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it.  Remember, no matter what is decided, you need to have synerg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7920" y="685800"/>
            <a:ext cx="4502160" cy="2666880"/>
          </a:xfrm>
          <a:prstGeom prst="rect">
            <a:avLst/>
          </a:prstGeom>
          <a:ln w="0">
            <a:noFill/>
          </a:ln>
        </p:spPr>
      </p:sp>
      <p:sp>
        <p:nvSpPr>
          <p:cNvPr id="133" name="PlaceHolder 2"/>
          <p:cNvSpPr>
            <a:spLocks noGrp="1"/>
          </p:cNvSpPr>
          <p:nvPr>
            <p:ph type="body"/>
          </p:nvPr>
        </p:nvSpPr>
        <p:spPr>
          <a:xfrm>
            <a:off x="380880" y="3505320"/>
            <a:ext cx="6096240" cy="49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Sandira, the head of Marketing.  You are responsibly for selling the Plans to the people of Earth, to convince them to see your people’s point of view.  This is not as easy as it sounds as the people of Earth have been doing everything in their power to pretend you don’t exist.  Of course, you are used to that since </a:t>
            </a:r>
            <a:r>
              <a:rPr b="0" i="1" lang="en-US" sz="1200" spc="-1" strike="noStrike">
                <a:solidFill>
                  <a:srgbClr val="000000"/>
                </a:solidFill>
                <a:latin typeface="Arial"/>
              </a:rPr>
              <a:t>your own people</a:t>
            </a:r>
            <a:r>
              <a:rPr b="0" lang="en-US" sz="1200" spc="-1" strike="noStrike">
                <a:solidFill>
                  <a:srgbClr val="000000"/>
                </a:solidFill>
                <a:latin typeface="Arial"/>
              </a:rPr>
              <a:t> ignore all of your good ideas.  Hmph.  It’s probably because you are femal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project needs is some good synergy, whatever that is.  Throw in as many buzzwords as you can during the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the most sexist pig you know.  He is convinced that women are not fit to do ma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a true wimp with the worst possibl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Bitch.  The Project Managers think the world of her.  Why?  Probably because she puts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geek techie.  He probably has never touched a woman, except in the VR sims.  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comes up with unsellable ideas.  Your life would be so much easier if you could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has slashed every advertising budget you have ever submitted.  He has it in for you.  You need to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Definitely not a team player.  He puts the anal in anal-reten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85800"/>
            <a:ext cx="450216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suggested the much superior Earth species of Butterflies, but did they listen?  Nooo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However, the messages were not translated first and the humans still did not have a dictorobitary to understand your language.  You wanted them translated to the Earth tongue, but accounting said that you didn’t have the budget fo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It was your idea to place the classified ad in the newspapers of Earth; however, the Techs mishandled the dictorobitary resulting in 812 calls for someone named “Gloria,” 246 offers to buy a used car, and 3 men looking for a masseuse named “Rober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7920" y="685800"/>
            <a:ext cx="45021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Grognar was sent to Topeka, Kansas on your suggestion.  However, the primitive humans misunderstood Grognar’s intentions and destroyed him with big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 tried to explain that this would not affect the human’s attitude and sent no clear message, and you were ignored.  You doubt that the people of Earth were even aware of Plan S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effects were hushed up by the Earth’s government.  If they had followed your research and gone with Topeka, Kansas again, that would have had the maximum desired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r research indicated that a cute, cuddly animal that also had the potential to rampage would prove the most effective.  You suggested the lemur, but were ignored and a koala was used instead.  And it completely failed to rampage.  Ba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85800"/>
            <a:ext cx="450216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here is that we don’t play the blame game.  It is important that we acknowledge the past and celebrate the diversity of the crew.  We must be forward looking and think positive.  And we desperately need syner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85800"/>
            <a:ext cx="450216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was responsible for the choice of animal and locale.  We suggested that a lemur be chosen to rampage through Topeka, Kansas in the heartland of the Human settlements.  We were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ti-success was that we were not proactive in implementing our planned decisions.  We have learned from our experience and will move forward with a positive attitu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85800"/>
            <a:ext cx="450216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how to sell them.  You need to get buy in from earth for the ideas.  You should make certain to suggest sailable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game: don’t be too upset if your suggestions are ignored or made light of.  In game: be furio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85800"/>
            <a:ext cx="450216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85800"/>
            <a:ext cx="450216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ctually seen the lamp/food processor.  It still has some bugs.  You have to be quick when you turn off the light or it mangles your hand.  Maybe you could suggest alternative appliances like a vacuum cleaner that transforms into a microwave ov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21FF0-66E5-4F37-8E5A-ACE0989E8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B19A-5CFB-429A-A3F1-4BB9405F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B17D5-B019-4F3F-85D4-23AFD4758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D4F1B-0231-4EAC-B47B-F557CFEB4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06E7-5D57-4E14-92B8-AE3A094C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88B4-9190-4F7A-98D9-FB805AEB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CAB51-BAE8-46AB-BB5C-22E68AFB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FB42B-99EF-40B7-B1BE-1D1EE3CE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019F-E1B7-431E-BF94-8E8B72F9F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1448-52FA-402C-A8CE-B503C5D8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6571-A30F-4DCD-A877-E8B8E6A1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08B5-540B-4473-8056-7B2732532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C7A3BE-D7E2-4BC3-AC51-D90820245819}"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81E101-18DD-4236-B453-BD6F781AF675}"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DDBDAAC-9C5F-4530-B4D2-C56401422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5F7E400D-ED41-4DA0-9B9A-1F3227FAB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AC785562-B34F-48A4-BABE-C689D5C54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2221C75F-1F0A-4CC8-B2F7-6C07897EB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313C119-02FC-4EA3-91C9-AE0A02E9F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25F344E-3832-4A0A-A5E1-DCFB9CEC53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2CD0891E-D608-44C7-B82F-8FE97D7B9F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C84E878-C8F3-4707-8C6E-76B1D40F5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1EEE289-9BEF-471A-8971-4928073565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7F66A1-DE96-4965-A534-F5796AFFE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203135F-3465-4092-8953-5C0923231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779F186B-8B9E-4DD6-9F6C-C8C279740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1FA7E678-F365-4183-8189-E4648347F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2640BE97-AD68-4356-9A16-BE945BE8D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16T02:52:30Z</dcterms:modified>
  <cp:revision>35</cp:revision>
  <dc:subject/>
  <dc:title>Plan Eight From Outer Space</dc:title>
</cp:coreProperties>
</file>